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image1.gif" ContentType="image/gif"/>
  <Override PartName="/ppt/media/fastcar.wav" ContentType="audio/x-wav"/>
  <Override PartName="/ppt/media/zipby102.wav" ContentType="audio/x-wav"/>
  <Override PartName="/ppt/media/zapvib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94E-8B4D-4CB8-B3C8-990775C7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C73-6AA3-4E02-B325-802C14DE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12E-7117-4EED-A9A7-0BBEF3E3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DCB-DAA7-4A3D-A991-FFC3602C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06D-3ECA-4E46-B67B-D664D4B5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080-407E-412B-8764-63735D9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9E4-603E-4E65-9AF0-E4141356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B50-2BEA-4569-B931-698C60A0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FC9-E6CF-43D9-8C2B-F4E9505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C92-0225-41B3-9EE7-9D43D0C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984-5A05-4F22-8D78-90A9B6A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F6A-CD61-44AE-8475-A995466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2EF-B3BB-4F0D-8B78-BB9966D9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caralarmoff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vib04.wav"/><Relationship Id="rId10" Type="http://schemas.openxmlformats.org/officeDocument/2006/relationships/audio" Target="../media/zapvib04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ipby102.wav"/><Relationship Id="rId14" Type="http://schemas.openxmlformats.org/officeDocument/2006/relationships/audio" Target="../media/hzipup01.wav"/><Relationship Id="rId15" Type="http://schemas.openxmlformats.org/officeDocument/2006/relationships/audio" Target="../media/zipby102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fastcar.wav"/><Relationship Id="rId3" Type="http://schemas.openxmlformats.org/officeDocument/2006/relationships/audio" Target="../media/bserie06.wav"/><Relationship Id="rId4" Type="http://schemas.openxmlformats.org/officeDocument/2006/relationships/audio" Target="../media/fastcar.wav"/><Relationship Id="rId5" Type="http://schemas.openxmlformats.org/officeDocument/2006/relationships/audio" Target="../media/fastcar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hzipup01.wav"/><Relationship Id="rId12" Type="http://schemas.openxmlformats.org/officeDocument/2006/relationships/audio" Target="../media/zapvib04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highchime.wav"/><Relationship Id="rId16" Type="http://schemas.openxmlformats.org/officeDocument/2006/relationships/audio" Target="../media/zipdn102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hzipup01.wav"/><Relationship Id="rId21" Type="http://schemas.openxmlformats.org/officeDocument/2006/relationships/audio" Target="../media/zapvib04.wav"/><Relationship Id="rId22" Type="http://schemas.openxmlformats.org/officeDocument/2006/relationships/audio" Target="../media/hzipup01.wav"/><Relationship Id="rId23" Type="http://schemas.openxmlformats.org/officeDocument/2006/relationships/audio" Target="../media/zapvib04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apvib04.wav"/><Relationship Id="rId8" Type="http://schemas.openxmlformats.org/officeDocument/2006/relationships/audio" Target="../media/hzipup01.wav"/><Relationship Id="rId9" Type="http://schemas.openxmlformats.org/officeDocument/2006/relationships/audio" Target="../media/zapvib04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vib04.wav"/><Relationship Id="rId19" Type="http://schemas.openxmlformats.org/officeDocument/2006/relationships/audio" Target="../media/hzipup01.wav"/><Relationship Id="rId20" Type="http://schemas.openxmlformats.org/officeDocument/2006/relationships/audio" Target="../media/zapvib04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apvib04.wav"/><Relationship Id="rId8" Type="http://schemas.openxmlformats.org/officeDocument/2006/relationships/audio" Target="../media/hzipup01.wav"/><Relationship Id="rId9" Type="http://schemas.openxmlformats.org/officeDocument/2006/relationships/audio" Target="../media/zapvib04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01800" y="4308480"/>
                <a:ext cx="541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598840" y="3206880"/>
                <a:ext cx="7286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258444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the ratio of all squares to shaded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2360" y="1536840"/>
            <a:ext cx="72900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5800" y="154296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98880" y="154944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75200" y="15573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828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21360" y="15699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924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78200" y="38955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838760" y="3798720"/>
                <a:ext cx="1344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3920" y="2009880"/>
                <a:ext cx="363996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92200" y="4670280"/>
                <a:ext cx="330516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87240" y="5288040"/>
                <a:ext cx="955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268360" y="266220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317680" y="270000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783400" y="2495520"/>
                <a:ext cx="95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673680" y="1890720"/>
                <a:ext cx="16812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47040" y="29480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989600" y="1924200"/>
                <a:ext cx="128880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854840" y="1860480"/>
                <a:ext cx="128916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50080" y="487980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V="1">
            <a:off x="7402680" y="2119320"/>
            <a:ext cx="768240" cy="56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973920" y="1322280"/>
                <a:ext cx="896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 flipV="1">
            <a:off x="8491680" y="3112560"/>
            <a:ext cx="652320" cy="6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21600" y="3230640"/>
                <a:ext cx="449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188120" y="4054320"/>
                <a:ext cx="10112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434360" y="5172120"/>
                <a:ext cx="561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5, 10 – 1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7, 10 – 2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981600" y="4524480"/>
                <a:ext cx="59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76560" y="3467160"/>
                <a:ext cx="6717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76120" y="258444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the ratio of shaded squares to squares that are not sha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1536840"/>
            <a:ext cx="72900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5800" y="154296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8880" y="154944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5200" y="15573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828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21360" y="15699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6924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19400" y="3500280"/>
                <a:ext cx="139860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6040" y="4597560"/>
                <a:ext cx="1460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22120" y="1870200"/>
            <a:ext cx="584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A box of 144 pencils cost $5.25. Write the ratio of the number of pencils to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08560" y="10731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9720" y="2800440"/>
                <a:ext cx="106380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841480" y="274968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Give the ratio in lowest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9400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3 to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68360" y="2965320"/>
                <a:ext cx="14590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360440" y="3859200"/>
                <a:ext cx="1459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98920" y="3821040"/>
                <a:ext cx="560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75120" y="2808360"/>
                <a:ext cx="106380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346880" y="275760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809960" y="1947960"/>
            <a:ext cx="25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55 to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41880" y="2973240"/>
                <a:ext cx="1122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33960" y="3867120"/>
                <a:ext cx="1122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077320" y="3828960"/>
                <a:ext cx="615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3560" y="3030480"/>
                <a:ext cx="442296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32240" y="316548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mplete to get an equal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23960" y="5432400"/>
                <a:ext cx="1233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549520" y="1843200"/>
                <a:ext cx="12351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21040" y="3038400"/>
                <a:ext cx="841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 flipH="1" rot="16200000">
            <a:off x="31345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H="1" rot="16200000">
            <a:off x="317088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48160" y="315900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0600" y="2975040"/>
                <a:ext cx="593388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67320" y="310500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mplete to get an equal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59040" y="5479920"/>
                <a:ext cx="2130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25640" y="1674720"/>
                <a:ext cx="2133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97520" y="3265560"/>
                <a:ext cx="617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7" name=""/>
          <p:cNvCxnSpPr/>
          <p:nvPr/>
        </p:nvCxnSpPr>
        <p:spPr>
          <a:xfrm flipH="1" rot="16200000">
            <a:off x="3904200" y="4060440"/>
            <a:ext cx="38520" cy="2096280"/>
          </a:xfrm>
          <a:prstGeom prst="curvedConnector5">
            <a:avLst>
              <a:gd name="adj1" fmla="val 1307547"/>
              <a:gd name="adj2" fmla="val 50000"/>
              <a:gd name="adj3" fmla="val 13075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896280" y="209700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60840" y="3257640"/>
                <a:ext cx="675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3960" y="1984320"/>
                <a:ext cx="31352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2920" y="4167360"/>
                <a:ext cx="1568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95320" y="4151160"/>
                <a:ext cx="1347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828800" y="262728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60460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49197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060560" y="4943520"/>
                <a:ext cx="896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58912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79560" y="4950000"/>
                <a:ext cx="8971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04880" y="5888160"/>
                <a:ext cx="12366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876400" y="5734080"/>
                <a:ext cx="6177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962600" y="1935000"/>
                <a:ext cx="319068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791400" y="4146480"/>
                <a:ext cx="1568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6320" y="4116240"/>
                <a:ext cx="1011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407280" y="2633760"/>
            <a:ext cx="9284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13400" y="261108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4824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07160" y="492300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167600" y="49323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26160" y="49291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183360" y="5810400"/>
                <a:ext cx="1236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481880" y="5711760"/>
                <a:ext cx="561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1928880"/>
                <a:ext cx="380844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32000" y="4138560"/>
                <a:ext cx="1792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27200" y="4083120"/>
                <a:ext cx="162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293920" y="262728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97080" y="253332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49197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20880" y="4915080"/>
                <a:ext cx="11761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2088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71640" y="4923000"/>
                <a:ext cx="1177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517760" y="5818320"/>
                <a:ext cx="1236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84600" y="5708520"/>
                <a:ext cx="1179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18080" y="1917720"/>
                <a:ext cx="347184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91400" y="4146480"/>
                <a:ext cx="1568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670720" y="4127400"/>
                <a:ext cx="1011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610320" y="261936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15280" y="2553840"/>
            <a:ext cx="102996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4824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807160" y="492300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7167600" y="49323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26160" y="49291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83360" y="589428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453440" y="5738760"/>
                <a:ext cx="618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0680" y="1990800"/>
                <a:ext cx="3527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73320" y="42051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79640" y="4186080"/>
                <a:ext cx="95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992240" y="267804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97200" y="261252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984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89080" y="498168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549520" y="49910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08440" y="4987800"/>
                <a:ext cx="560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565280" y="59529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63800" y="5770440"/>
                <a:ext cx="561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0T17:40:15Z</dcterms:modified>
  <cp:revision>83</cp:revision>
  <dc:subject/>
  <dc:title>Slide 1</dc:title>
</cp:coreProperties>
</file>